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6688-4C77-4EA4-BD18-0A1EB06E7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08D7-19F4-4AA4-99B1-5530530D2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CA68-34C3-4504-B84D-077AADEAE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7F53-1498-407F-B4B2-914A62A5C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0122-0DAA-479A-B8DF-B6611A805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0255-A31C-4D47-A6FD-2B1A16089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FF03-3DBA-4E1A-96D2-6E56A2C9D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9DF9-22A6-4B6E-A9A5-8BA4AD96A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78AD-2558-4647-86D8-E216A43A5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7E96-6E64-4CFD-AE21-1A4109896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87ED-1AA1-428F-9085-6EC117964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ED9B-BDF4-4616-82EE-97ACF716E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15299-5197-4B7B-AD5A-35567327E0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00200" y="4648320"/>
            <a:ext cx="1828800" cy="106668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quent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ssn, am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00200" y="1905120"/>
            <a:ext cx="18288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715000" y="3581280"/>
            <a:ext cx="2590920" cy="198144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rom lab 2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30481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3581280"/>
            <a:ext cx="1676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Read Sequential Reco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3048120"/>
            <a:ext cx="22860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505320" y="3581280"/>
            <a:ext cx="1676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Read indexed file based on SSN k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3429000" y="2819520"/>
            <a:ext cx="26668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343400" y="2666880"/>
            <a:ext cx="3733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If amt is &lt;= available money (credit – balance), then subtract the amount, otherwise do not chan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410080" y="3200400"/>
            <a:ext cx="373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Update file if necessa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43828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1219320"/>
            <a:ext cx="373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Print result to scre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04920" y="304920"/>
            <a:ext cx="373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b 3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600200" y="1905120"/>
            <a:ext cx="18288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15000" y="3581280"/>
            <a:ext cx="2590920" cy="198144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rom lab 2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3048120"/>
            <a:ext cx="22860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 flipV="1">
            <a:off x="3429000" y="2819520"/>
            <a:ext cx="26668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95480" y="3657600"/>
            <a:ext cx="2133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Read indexed file based on SSN inp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243828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90920" y="1219320"/>
            <a:ext cx="373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Print data to scre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04920" y="304920"/>
            <a:ext cx="373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b 3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05740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4920" y="121932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Get SSN from us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600200" y="1905120"/>
            <a:ext cx="18288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715000" y="3581280"/>
            <a:ext cx="2590920" cy="198144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rom lab 2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3048120"/>
            <a:ext cx="22860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 flipV="1">
            <a:off x="3429000" y="2819520"/>
            <a:ext cx="26668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895480" y="3657600"/>
            <a:ext cx="2133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Read indexed file sequenti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243828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590920" y="1219320"/>
            <a:ext cx="373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Print data to scre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04920" y="304920"/>
            <a:ext cx="373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b 3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2T20:56:27Z</dcterms:created>
  <dc:creator>Widener University</dc:creator>
  <dc:description/>
  <dc:language>en-US</dc:language>
  <cp:lastModifiedBy>Widener University</cp:lastModifiedBy>
  <dcterms:modified xsi:type="dcterms:W3CDTF">2011-04-12T21:00:05Z</dcterms:modified>
  <cp:revision>2</cp:revision>
  <dc:subject/>
  <dc:title>Slide 1</dc:title>
</cp:coreProperties>
</file>